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941913692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6</c:v>
                </c:pt>
                <c:pt idx="5">
                  <c:v>0</c:v>
                </c:pt>
                <c:pt idx="6">
                  <c:v>1</c:v>
                </c:pt>
                <c:pt idx="7">
                  <c:v>5</c:v>
                </c:pt>
                <c:pt idx="8">
                  <c:v>0</c:v>
                </c:pt>
                <c:pt idx="9">
                  <c:v>5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0982367758186</c:v>
                </c:pt>
                <c:pt idx="1">
                  <c:v>4.79596977329975</c:v>
                </c:pt>
                <c:pt idx="2">
                  <c:v>12.8463476070529</c:v>
                </c:pt>
                <c:pt idx="3">
                  <c:v>11.3047858942065</c:v>
                </c:pt>
                <c:pt idx="4">
                  <c:v>7.02267002518892</c:v>
                </c:pt>
                <c:pt idx="5">
                  <c:v>7.02267002518892</c:v>
                </c:pt>
                <c:pt idx="6">
                  <c:v>4.45340050377834</c:v>
                </c:pt>
                <c:pt idx="7">
                  <c:v>5.65239294710327</c:v>
                </c:pt>
                <c:pt idx="8">
                  <c:v>1.37027707808564</c:v>
                </c:pt>
                <c:pt idx="9">
                  <c:v>1.71284634760705</c:v>
                </c:pt>
                <c:pt idx="10">
                  <c:v>1.71284634760705</c:v>
                </c:pt>
                <c:pt idx="11">
                  <c:v>1.37027707808564</c:v>
                </c:pt>
                <c:pt idx="12">
                  <c:v>0.685138539042821</c:v>
                </c:pt>
                <c:pt idx="13">
                  <c:v>0.685138539042821</c:v>
                </c:pt>
                <c:pt idx="14">
                  <c:v>1.54156171284635</c:v>
                </c:pt>
                <c:pt idx="15">
                  <c:v>0.513853904282116</c:v>
                </c:pt>
              </c:numCache>
            </c:numRef>
          </c:val>
        </c:ser>
        <c:gapWidth val="100"/>
        <c:overlap val="0"/>
        <c:axId val="25722133"/>
        <c:axId val="41806143"/>
      </c:barChart>
      <c:catAx>
        <c:axId val="257221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6143"/>
        <c:crossesAt val="0"/>
        <c:auto val="1"/>
        <c:lblAlgn val="ctr"/>
        <c:lblOffset val="100"/>
        <c:noMultiLvlLbl val="0"/>
      </c:catAx>
      <c:valAx>
        <c:axId val="41806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2213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830407537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1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130982367758</c:v>
                </c:pt>
                <c:pt idx="1">
                  <c:v>4.3727959697733</c:v>
                </c:pt>
                <c:pt idx="2">
                  <c:v>11.7128463476071</c:v>
                </c:pt>
                <c:pt idx="3">
                  <c:v>10.3073047858942</c:v>
                </c:pt>
                <c:pt idx="4">
                  <c:v>6.40302267002519</c:v>
                </c:pt>
                <c:pt idx="5">
                  <c:v>6.40302267002519</c:v>
                </c:pt>
                <c:pt idx="6">
                  <c:v>4.06045340050378</c:v>
                </c:pt>
                <c:pt idx="7">
                  <c:v>5.1536523929471</c:v>
                </c:pt>
                <c:pt idx="8">
                  <c:v>1.24937027707809</c:v>
                </c:pt>
                <c:pt idx="9">
                  <c:v>1.56171284634761</c:v>
                </c:pt>
                <c:pt idx="10">
                  <c:v>1.56171284634761</c:v>
                </c:pt>
                <c:pt idx="11">
                  <c:v>1.24937027707809</c:v>
                </c:pt>
                <c:pt idx="12">
                  <c:v>0.624685138539043</c:v>
                </c:pt>
                <c:pt idx="13">
                  <c:v>0.624685138539043</c:v>
                </c:pt>
                <c:pt idx="14">
                  <c:v>1.40554156171285</c:v>
                </c:pt>
                <c:pt idx="15">
                  <c:v>0.468513853904282</c:v>
                </c:pt>
              </c:numCache>
            </c:numRef>
          </c:val>
        </c:ser>
        <c:gapWidth val="100"/>
        <c:overlap val="0"/>
        <c:axId val="52251299"/>
        <c:axId val="16272997"/>
      </c:barChart>
      <c:catAx>
        <c:axId val="522512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72997"/>
        <c:crossesAt val="0"/>
        <c:auto val="1"/>
        <c:lblAlgn val="ctr"/>
        <c:lblOffset val="100"/>
        <c:noMultiLvlLbl val="0"/>
      </c:catAx>
      <c:valAx>
        <c:axId val="16272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5129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</c:v>
                </c:pt>
                <c:pt idx="3">
                  <c:v>1</c:v>
                </c:pt>
                <c:pt idx="4">
                  <c:v>11</c:v>
                </c:pt>
                <c:pt idx="5">
                  <c:v>5</c:v>
                </c:pt>
                <c:pt idx="6">
                  <c:v>0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2216624685139</c:v>
                </c:pt>
                <c:pt idx="1">
                  <c:v>5.07808564231738</c:v>
                </c:pt>
                <c:pt idx="2">
                  <c:v>13.6020151133501</c:v>
                </c:pt>
                <c:pt idx="3">
                  <c:v>11.9697732997481</c:v>
                </c:pt>
                <c:pt idx="4">
                  <c:v>7.43576826196474</c:v>
                </c:pt>
                <c:pt idx="5">
                  <c:v>7.43576826196474</c:v>
                </c:pt>
                <c:pt idx="6">
                  <c:v>4.71536523929471</c:v>
                </c:pt>
                <c:pt idx="7">
                  <c:v>5.98488664987406</c:v>
                </c:pt>
                <c:pt idx="8">
                  <c:v>1.45088161209068</c:v>
                </c:pt>
                <c:pt idx="9">
                  <c:v>1.81360201511335</c:v>
                </c:pt>
                <c:pt idx="10">
                  <c:v>1.81360201511335</c:v>
                </c:pt>
                <c:pt idx="11">
                  <c:v>1.45088161209068</c:v>
                </c:pt>
                <c:pt idx="12">
                  <c:v>0.72544080604534</c:v>
                </c:pt>
                <c:pt idx="13">
                  <c:v>0.72544080604534</c:v>
                </c:pt>
                <c:pt idx="14">
                  <c:v>1.63224181360202</c:v>
                </c:pt>
                <c:pt idx="15">
                  <c:v>0.544080604534005</c:v>
                </c:pt>
              </c:numCache>
            </c:numRef>
          </c:val>
        </c:ser>
        <c:gapWidth val="100"/>
        <c:overlap val="0"/>
        <c:axId val="90197327"/>
        <c:axId val="81610507"/>
      </c:barChart>
      <c:catAx>
        <c:axId val="901973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0507"/>
        <c:crossesAt val="0"/>
        <c:auto val="1"/>
        <c:lblAlgn val="ctr"/>
        <c:lblOffset val="100"/>
        <c:noMultiLvlLbl val="0"/>
      </c:catAx>
      <c:valAx>
        <c:axId val="81610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73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4589800443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2"/>
          <c:y val="0.209223847019123"/>
          <c:w val="0.959911308203991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2</c:v>
                </c:pt>
                <c:pt idx="3">
                  <c:v>3</c:v>
                </c:pt>
                <c:pt idx="4">
                  <c:v>0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87220093"/>
        <c:axId val="37802691"/>
      </c:barChart>
      <c:catAx>
        <c:axId val="872200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02691"/>
        <c:crossesAt val="0"/>
        <c:auto val="1"/>
        <c:lblAlgn val="ctr"/>
        <c:lblOffset val="100"/>
        <c:noMultiLvlLbl val="0"/>
      </c:catAx>
      <c:valAx>
        <c:axId val="37802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009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8</c:v>
                </c:pt>
                <c:pt idx="3">
                  <c:v>7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2196775"/>
        <c:axId val="7069079"/>
      </c:barChart>
      <c:catAx>
        <c:axId val="21967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9079"/>
        <c:crossesAt val="0"/>
        <c:auto val="1"/>
        <c:lblAlgn val="ctr"/>
        <c:lblOffset val="100"/>
        <c:noMultiLvlLbl val="0"/>
      </c:catAx>
      <c:valAx>
        <c:axId val="7069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77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7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389830508474</c:v>
                </c:pt>
                <c:pt idx="1">
                  <c:v>5.6135593220339</c:v>
                </c:pt>
                <c:pt idx="2">
                  <c:v>15.3762711864407</c:v>
                </c:pt>
                <c:pt idx="3">
                  <c:v>13.9118644067797</c:v>
                </c:pt>
                <c:pt idx="4">
                  <c:v>7.32203389830508</c:v>
                </c:pt>
                <c:pt idx="5">
                  <c:v>7.32203389830508</c:v>
                </c:pt>
                <c:pt idx="6">
                  <c:v>3.41694915254237</c:v>
                </c:pt>
                <c:pt idx="7">
                  <c:v>6.83389830508475</c:v>
                </c:pt>
                <c:pt idx="8">
                  <c:v>0.488135593220339</c:v>
                </c:pt>
                <c:pt idx="9">
                  <c:v>0.732203389830508</c:v>
                </c:pt>
                <c:pt idx="10">
                  <c:v>0.488135593220339</c:v>
                </c:pt>
                <c:pt idx="11">
                  <c:v>0.488135593220339</c:v>
                </c:pt>
                <c:pt idx="12">
                  <c:v>0.244067796610169</c:v>
                </c:pt>
                <c:pt idx="13">
                  <c:v>0.244067796610169</c:v>
                </c:pt>
                <c:pt idx="14">
                  <c:v>1.46440677966102</c:v>
                </c:pt>
                <c:pt idx="15">
                  <c:v>1.22033898305085</c:v>
                </c:pt>
              </c:numCache>
            </c:numRef>
          </c:val>
        </c:ser>
        <c:gapWidth val="100"/>
        <c:overlap val="0"/>
        <c:axId val="17522560"/>
        <c:axId val="8843873"/>
      </c:barChart>
      <c:catAx>
        <c:axId val="175225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3873"/>
        <c:crossesAt val="0"/>
        <c:auto val="1"/>
        <c:lblAlgn val="ctr"/>
        <c:lblOffset val="100"/>
        <c:noMultiLvlLbl val="0"/>
      </c:catAx>
      <c:valAx>
        <c:axId val="884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25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4</c:v>
                </c:pt>
                <c:pt idx="3">
                  <c:v>3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9</c:v>
                </c:pt>
                <c:pt idx="10">
                  <c:v>6</c:v>
                </c:pt>
                <c:pt idx="11">
                  <c:v>8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2</c:v>
                </c:pt>
                <c:pt idx="1">
                  <c:v>2.72</c:v>
                </c:pt>
                <c:pt idx="2">
                  <c:v>8.16</c:v>
                </c:pt>
                <c:pt idx="3">
                  <c:v>8.16</c:v>
                </c:pt>
                <c:pt idx="4">
                  <c:v>5.44</c:v>
                </c:pt>
                <c:pt idx="5">
                  <c:v>5.44</c:v>
                </c:pt>
                <c:pt idx="6">
                  <c:v>5.44</c:v>
                </c:pt>
                <c:pt idx="7">
                  <c:v>0</c:v>
                </c:pt>
                <c:pt idx="8">
                  <c:v>5.44</c:v>
                </c:pt>
                <c:pt idx="9">
                  <c:v>6.8</c:v>
                </c:pt>
                <c:pt idx="10">
                  <c:v>6.8</c:v>
                </c:pt>
                <c:pt idx="11">
                  <c:v>5.44</c:v>
                </c:pt>
                <c:pt idx="12">
                  <c:v>4.08</c:v>
                </c:pt>
                <c:pt idx="13">
                  <c:v>1.3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7847526"/>
        <c:axId val="6182736"/>
      </c:barChart>
      <c:catAx>
        <c:axId val="878475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736"/>
        <c:crossesAt val="0"/>
        <c:auto val="1"/>
        <c:lblAlgn val="ctr"/>
        <c:lblOffset val="100"/>
        <c:noMultiLvlLbl val="0"/>
      </c:catAx>
      <c:valAx>
        <c:axId val="6182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75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6</c:v>
                </c:pt>
                <c:pt idx="10">
                  <c:v>3</c:v>
                </c:pt>
                <c:pt idx="11">
                  <c:v>7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8</c:v>
                </c:pt>
                <c:pt idx="1">
                  <c:v>2.48</c:v>
                </c:pt>
                <c:pt idx="2">
                  <c:v>7.44</c:v>
                </c:pt>
                <c:pt idx="3">
                  <c:v>7.44</c:v>
                </c:pt>
                <c:pt idx="4">
                  <c:v>4.96</c:v>
                </c:pt>
                <c:pt idx="5">
                  <c:v>4.96</c:v>
                </c:pt>
                <c:pt idx="6">
                  <c:v>4.96</c:v>
                </c:pt>
                <c:pt idx="7">
                  <c:v>0</c:v>
                </c:pt>
                <c:pt idx="8">
                  <c:v>4.96</c:v>
                </c:pt>
                <c:pt idx="9">
                  <c:v>6.2</c:v>
                </c:pt>
                <c:pt idx="10">
                  <c:v>6.2</c:v>
                </c:pt>
                <c:pt idx="11">
                  <c:v>4.96</c:v>
                </c:pt>
                <c:pt idx="12">
                  <c:v>3.72</c:v>
                </c:pt>
                <c:pt idx="13">
                  <c:v>1.2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8552366"/>
        <c:axId val="44719051"/>
      </c:barChart>
      <c:catAx>
        <c:axId val="485523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19051"/>
        <c:crossesAt val="0"/>
        <c:auto val="1"/>
        <c:lblAlgn val="ctr"/>
        <c:lblOffset val="100"/>
        <c:noMultiLvlLbl val="0"/>
      </c:catAx>
      <c:valAx>
        <c:axId val="44719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236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6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4</c:v>
                </c:pt>
                <c:pt idx="1">
                  <c:v>1.44</c:v>
                </c:pt>
                <c:pt idx="2">
                  <c:v>4.32</c:v>
                </c:pt>
                <c:pt idx="3">
                  <c:v>4.32</c:v>
                </c:pt>
                <c:pt idx="4">
                  <c:v>2.88</c:v>
                </c:pt>
                <c:pt idx="5">
                  <c:v>2.88</c:v>
                </c:pt>
                <c:pt idx="6">
                  <c:v>2.88</c:v>
                </c:pt>
                <c:pt idx="7">
                  <c:v>0</c:v>
                </c:pt>
                <c:pt idx="8">
                  <c:v>2.88</c:v>
                </c:pt>
                <c:pt idx="9">
                  <c:v>3.6</c:v>
                </c:pt>
                <c:pt idx="10">
                  <c:v>3.6</c:v>
                </c:pt>
                <c:pt idx="11">
                  <c:v>2.88</c:v>
                </c:pt>
                <c:pt idx="12">
                  <c:v>2.16</c:v>
                </c:pt>
                <c:pt idx="13">
                  <c:v>0.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4712917"/>
        <c:axId val="58509263"/>
      </c:barChart>
      <c:catAx>
        <c:axId val="147129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09263"/>
        <c:crossesAt val="0"/>
        <c:auto val="1"/>
        <c:lblAlgn val="ctr"/>
        <c:lblOffset val="100"/>
        <c:noMultiLvlLbl val="0"/>
      </c:catAx>
      <c:valAx>
        <c:axId val="58509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291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E703-68A8-49E4-9091-FFC04ABA02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6FD3-C499-40E3-A239-CD2C906CCD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E68-44F4-4743-B6CC-DF56488F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0D1-77D9-4574-A233-EBF882F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C34-8D1B-4C1A-B6B4-AB65F0DC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EE7-8AFF-45E2-BDE3-44520277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536-AAC4-4582-8601-FAC0733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2C9-62AF-43F6-ABB4-0B586683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36E-21C3-4383-B292-A5F794A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802-973E-4729-939B-4FAC2BDF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496-228C-493E-90EE-5A6DB28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B5F-6661-4111-B626-BB7D2A5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FB5-AB46-41FA-BE69-4ED0EE7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F96-1A17-414F-8A94-A141555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DAE-0DE6-41AC-9F24-B7A137D760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LUIZ SOARES ANDRADE  NOVA ANDRADINA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ROSIMEIRE OLIV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00040" y="2214720"/>
          <a:ext cx="8118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9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6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428920" y="5143680"/>
          <a:ext cx="381168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ISM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571680" y="2214720"/>
          <a:ext cx="810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3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5000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858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7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Quim/ Lit/ Fil/ Soc/ Ed. Rel/ Prod. Int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His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Hist/ Fil/ Soc/ Ed. Rel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Artes/ Port/ 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64,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35,5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/ Geo/ Inglês/ Ciências/ Quim/ Fil/ Soc/ Ed. Rel.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 / Fís/ L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ÁRCIO REDIG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357120" y="2214720"/>
          <a:ext cx="8286840" cy="2928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2428920" y="5214960"/>
          <a:ext cx="3811680" cy="116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214960"/>
                    <a:ext cx="3811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57160" y="2214720"/>
          <a:ext cx="71438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2643120" y="5143680"/>
          <a:ext cx="3811680" cy="126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3120" y="5143680"/>
                    <a:ext cx="381168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85840" y="214308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9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71840" y="5072040"/>
          <a:ext cx="3811320" cy="123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5072040"/>
                    <a:ext cx="38113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Luciana Catarino</cp:lastModifiedBy>
  <dcterms:modified xsi:type="dcterms:W3CDTF">2009-07-11T01:13:56Z</dcterms:modified>
  <cp:revision>46</cp:revision>
  <dc:subject/>
  <dc:title>EE LUIZ SOARES ANDRADE  NOVA ANDRADINA - MS</dc:title>
</cp:coreProperties>
</file>